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7751880" y="6381720"/>
            <a:ext cx="241200" cy="4096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8066160" y="6489720"/>
            <a:ext cx="718920" cy="21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The%20KMPLayer!/KMPlayer.exe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24000" y="303372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324000" y="386064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3089160"/>
            <a:ext cx="8496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Руководство по плэйер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84960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фед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.П.Василь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циплина «МУЛЬТИМЕДИА ТЕХНОЛОГ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0920" y="4005360"/>
            <a:ext cx="8496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ля специальносте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71900 "Информационные системы и технологии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24000" y="76500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16000" y="0"/>
            <a:ext cx="8820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CB89-EAF1-4997-A158-0201B5E51BC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1628640"/>
            <a:ext cx="8496000" cy="44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981000"/>
            <a:ext cx="849636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Для проигрывания видеоклипов, анимаций и д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файлов на которые делаются ссылки в презентац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меется прилагаемый плэйе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The KMPLay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Просто перетаскивайте файл на значок плэй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KMPlayer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В папке имеется так же автоинсталяционная 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этого плэйера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kmp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32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20aa"/>
                </a:solidFill>
                <a:latin typeface="Arial"/>
              </a:rPr>
              <a:t>Которая устанавливается при запу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91BC-85F5-4ED5-BDB0-4E7D48B31D5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3860640"/>
            <a:ext cx="84960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спользование материалов презент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buClr>
                <a:srgbClr val="ff0000"/>
              </a:buClr>
              <a:buSzPct val="12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User</cp:lastModifiedBy>
  <dcterms:modified xsi:type="dcterms:W3CDTF">2009-01-19T11:18:33Z</dcterms:modified>
  <cp:revision>98</cp:revision>
  <dc:subject/>
  <dc:title>Lecture Template </dc:title>
</cp:coreProperties>
</file>